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4AC-D90A-426F-9060-C86044E0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668-0A07-40FD-A90F-E8BBF55D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F15-F59A-4A26-93E7-6D2DAEA4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BBE7-0244-4E62-BCC0-2CF79838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80D-9462-41C6-9BC7-3AFC5ED0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7EC-2724-4C87-B0AC-6725FD71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0A9-5CDD-4303-945A-2E0BFFAD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CA5-1F42-4EDF-8759-A50840A2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B93-A0A9-4EBE-8743-F82851E3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C32-FD33-4B4A-8317-36DFA621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789-263B-4834-9A72-BD57B9CC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A95-4ADA-4A9F-83CE-564E5137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88F73-94DD-450C-8797-5FE9866FBE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-525960"/>
            <a:ext cx="907092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РАЗОВАТЕЛЬНАЯ ПРОГРАММА «ДЕТСКИЙ САД  Д. М-СЕРВА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УЧЕТОМ ВНЕДРЕНИЯ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ГОС ДО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р: воспитатель структурного подразделения МАОУ «Сервинская основная общеобразовательная школа» «Детский сад Д.М-Сер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2120" y="3476520"/>
            <a:ext cx="915660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р: воспитатель структурного подразделения МАОУ «Сервинская основная общеобразовательная школа» «Детский сад Д.М-Сер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разовательная программа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МАОУ «Сервинская ООШ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«Детский сад д. Малая Серва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втор: воспитатель Надымова Т.В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0360" y="539640"/>
            <a:ext cx="9180360" cy="71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СЛОВИЯ РЕАЛИЗАЦИИ ПРОГРАММЫ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Материально-технические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ответствуют санитарным нормам, правилам пожарной безопасности, возрастным и индивидуальным особенностям дете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Каждая группа имеет пространственную среду, оборудование, учебные комплекты в соответствии с возрастом дете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сихолого – педагогические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Уважение к человеческому достоинству детей, формирование и поддержка их положительной самооценк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Использование форм и методов работы, соответствующих возрасту, индивидуальным особенностям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остроение образовательной деятельности на основе взаимодействия взрослых с детьм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оддержка доброжелательного отношения детей к друг другу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озможность выбора детьми видов деятельности, общен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Защита детей от всех форм физического и психического насил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оддержка родителей в воспитании детей, вовлечение семей в образовательную деятельность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Развивающая предметно-пространственная сред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ивает возможность общения и совместной деятельности детей и взрослых, двигательной активности, возможности для уеди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ответствует возрастным возможностям де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редполагает возможность изменений от образовательной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Доступность, безопас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Кадровые: в МБДОУ работают: 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едагоги первой квалификационной категории 72% высшей категории 21% </a:t>
            </a: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Наличие специалистов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 инструкторы по физическому воспитанию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музыкальный руководитель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 педагог-психолог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учитель-логопед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Финансовые 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ивают возможность выполнения требований Стандарт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Гарантия бесплатного дошкольного образования за счет средств бюджетов бюджетной системы РФ в муниципальных организациях осуществляется на основе нормативов, определяемых органами государственной власти УР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6000" y="360360"/>
            <a:ext cx="953136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ЕВЫЕ ОРИЕНТИРЫ НА ЭТАПЕ ЗАВЕРШЕНИЯ ДОШКОЛЬНОГО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Модель выпускника ДО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;Franklin G"/>
                <a:ea typeface="Franklin Gothic Book;Franklin G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ладеет основными культурными способами деятель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Проявляет инициативу и самостоятель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Положительно относится к миру, к людям, , самому себе, участвует в совместных играх, способен договаривать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Адекватно проявляет свои чув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Владеет разными формами и видами игр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Хорошо владеет устной речью, может выражать свои мысли и жел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Развита мелкая мотори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Способен к волевым усилиям , может следовать социальным нормам поведения в различных видах деятель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Соблюдает правила безопасного поведения и личной гигиен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Проявляет любознательность, интересуется причинно-следственными связями, склонен наблюдать , экспериментиров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0бладает начальными знаниями о себе, природном и социальном мире, в котором жив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0760" y="179280"/>
            <a:ext cx="92199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ЯЗАТЕЛЬНАЯ ЧАСТЬ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Условия реализации Программы должны обеспечивать полноценное развитие личности во всех основных образовательных обла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Различные виды детск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Режимные мо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амостоятельная дея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заимодействие с родител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900000"/>
            <a:ext cx="882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ПОЛНИТЕЛЬНОЕ ОБРАЗОВАНИ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НЕДРЕНИЕ НОВЫХ ВАРИАТИВНЫХ ФОРМ ДОШКОЛЬНОГО ОБРАЗОВАНИЯ С ЦЕЛЬЮ ПОВЫШЕНИЯ КАЧЕСТВА ОБРАЗОВАТЕЛЬНОГО ПРОЦЕССА И УДОВЛЕТВОРЕНИЯ ЗАПРОСА ОБ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Кружок «Ковдом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«Веселый худож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«Умелые руч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БОТА С РОДИТЕЛЯ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1979640"/>
          <a:ext cx="5580000" cy="287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79640"/>
                    <a:ext cx="55800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859280" y="2340000"/>
          <a:ext cx="3060720" cy="1260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340000"/>
                    <a:ext cx="306072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332000" y="1800360"/>
            <a:ext cx="29876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н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апки-передвиж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со С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ста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ни открытых двер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уск журн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лог дове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ие выста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мятки для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рытые просмотры детск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курсии по Д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тоальбомы груп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товыста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40360" y="2160720"/>
            <a:ext cx="459432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Анке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Бес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Опро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Интервью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Маркетинговые исследования (соц. Срез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«Копилка родительской мудрости»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79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ОВАТЕЛЬНАЯ ПРОГРАММА СОСТО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8920" y="8996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 мене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язательная часть Програм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«Радуга» Е.В.Соловь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 боле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ариативная часть формируемая участниками образовательного процес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64800"/>
            <a:ext cx="9070920" cy="1731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разовательная программа разработана в соответствии с федеральным государственным образовательным стандартом дошкольного образов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280" y="-179280"/>
            <a:ext cx="8712360" cy="795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ходе проектирования учитывалис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Aft>
                <a:spcPts val="3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;Courier New"/>
                <a:ea typeface="Courier New;Courier New"/>
              </a:rPr>
              <a:t>o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комендации Примерной образовательной программы дошко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Aft>
                <a:spcPts val="3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;Courier New"/>
                <a:ea typeface="Courier New;Courier New"/>
              </a:rPr>
              <a:t>o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зовательные потребности воспитан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Aft>
                <a:spcPts val="3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;Courier New"/>
                <a:ea typeface="Courier New;Courier New"/>
              </a:rPr>
              <a:t>o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росы родителей (законных представителе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Aft>
                <a:spcPts val="3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;Courier New"/>
                <a:ea typeface="Courier New;Courier New"/>
              </a:rPr>
              <a:t>o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сихолого-педагогические, кадровые, материально-технические, финансовые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20720" y="360360"/>
            <a:ext cx="75596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БРАЗОВАТЕЛЬНЫЕ ОБЛА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9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3;Wingdings"/>
                <a:ea typeface="Wingdings 3;Wingdings"/>
              </a:rPr>
              <a:t>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циально-коммуникативн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направлено на усвоение норм и ценностей, принятых в обществе, включая моральные и нравственные ценности; развитие общения и взаимодействия ребенка со взрослыми и сверстниками; становление самостоятельности, целенаправленности и саморегуляции собственных действий; развитие социального и эмоционального интеллекта, эмоциональной отзывчивости, сопереживания, формирование готовности к совместной деятельности со сверстниками, формирование уважительного отношения и чувства принадлежности к своей семье и к сообществу детей и взрослых в Организации; формирование позитивных установок к различным видам труда и творчества; формирование основ безопасного поведения в быту, социуме, при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9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3;Wingdings"/>
                <a:ea typeface="Wingdings 3;Wingdings"/>
              </a:rPr>
              <a:t>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ознавательн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редполагает развитие интересов детей, любознательности и познавательной мотивации; формирование познавательных действий, становление сознания; развитие воображения и творческой активности; формирование первичных представлений о себе, других людях, объектах окружающего мира, о свойствах и отношениях объектов окружающего мира (форме, цвете, размере, материале, звучании, ритме, темпе, количестве, числе, части и целом, пространстве и времени, движении и покое, причинах и следствиях и др.), о малой родине и Отечестве, представлений о социокультурных ценностях нашего народа, об отечественных традициях и праздниках, о планете Земля как общем доме людей, об особенностях ее природы, многообразии стран и народов ми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0360" y="77760"/>
            <a:ext cx="9360000" cy="66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5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чев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ключает владение речью как средством общения и культуры; обогащение активного словаря; развитие связной, грамматически правильной диалогической и монологической речи; развитие речевого творчества; развитие звуковой и интонационной культуры речи, фонематического слуха; знакомство с книжной культурой, детской литературой, понимание на слух текстов различных жанров детской литературы; формирование звуковой аналитико-синтетической активности как предпосылки обучения грамо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5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3;Wingdings"/>
                <a:ea typeface="Wingdings 3;Wingdings"/>
              </a:rPr>
              <a:t>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удожественно-эстетическ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редполагает развитие предпосылок ценностно-смыслового восприятия и понимания произведений искусства (словесного, музыкального, изобразительного), мира природы; становление эстетического отношения к окружающему миру; формирование элементарных представлений о видах искусства; восприятие музыки, художественной литературы, фольклора; стимулирование сопереживания персонажам художественных произведений; реализацию самостоятельной творческой деятельности детей (изобразительной, конструктивно-модельной, музыкальной и др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5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3;Wingdings"/>
                <a:ea typeface="Wingdings 3;Wingdings"/>
              </a:rPr>
              <a:t>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изическ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ключает приобретение опыта в следующих видах деятельности детей: двигательной, в том числе связанной с выполнением упражнений, направленных на развитие таких физических качеств, как координация и гибкость; способствующих правильному формированию опорно-двигательной системы организма, развитию равновесия, координации движения, крупной и мелкой моторики обеих рук, а также с правильным, не наносящем ущерба организму, выполнением основных движений (ходьба, бег, мягкие прыжки, повороты в обе стороны), формирование начальных представлений о некоторых видах спорта, овладение подвижными играми с правилами; становление целенаправленности и саморегуляции в двигательной сфере; становление ценностей здорового образа жизни, овладение его элементарными нормами и правилами (в питании, двигательном режиме, закаливании, при формировании полезных привычек и др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79280"/>
            <a:ext cx="9180720" cy="70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АДАЧИ РЕАЛИЗАЦИИ ПРОГРАММ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охрана и укрепление физического и психического здоровья детей, в том числе их эмоционального благополуч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ение равных возможностей полноценного развития каждого ребёнка в период дошкольного детства независимо от места проживания, пола, нации, языка, социального статуса, психофизиологических особенностей (в том числе ограниченных возможностей здоровья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ение преемственности основных образовательных программ дошкольного и начального общего образова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здание благоприятных условий развития детей в соответствии с их возрастными и индивидуаль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собенностями и склонностями развития способностей и творческого потенциала каждого ребёнка как субъе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тношений с самим собой, другими детьми, взрослыми и мир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ъединение обучения и воспитания в целостный образовательный процесс на основе духовно-нравственных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циокультурных ценностей и принятых в обществе правил и норм поведения в интересах человека, семьи, обществ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формирование общей культуры личности воспитанников, развитие их социальных, нравственных, эстетически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интеллектуальных, физических качеств, инициативности, самостоятельности и ответственности ребёнка,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редпосылок учебной деятельност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ение вариативности и разнообразия содержания образовательных программ и организационных форм уров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дошкольного образования, возможности формирования образовательных программ различной направленности с учёт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разовательных потребностей и способностей воспитанник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формирование социокультурной среды, соответствующей возрастным, индивидуальным, психологическим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физиологическим особенностям дет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ение психолого-педагогической поддержки семьи и повышения компетентности родителей в вопрос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развития и образования, охраны и укрепления здоровья дет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пределение направлений для систематического межведомственного взаимодействия, а также взаимодейств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едагогических и общественных объединений (в том числе сетевого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0360" y="720720"/>
            <a:ext cx="91803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ДЕРЖАНИЕ УКАЗАННЫХ ОБРАЗОВАТЕЛЬНЫХ ОБЛАСТЕЙ ЗАВИСИТ ОТ ВОЗРАСТНЫХ И ИНДИВИДУАЛЬНЫХ ОСОБЕННОСТЕЙ ДЕТЕЙ, ОПРЕДЕЛЯЕТСЯ ЦЕЛЯМИ И ЗАДАЧАМИ ПРОГРАММЫ И РЕАЛИЗУЕТСЯ В РАЗЛИЧНЫХ ВИДАХ ДЕЯТЕЛЬНОСТИ (ОБЩЕНИИ, ИГРЕ, ПОЗНАВАТЕЛЬНО-ИССЛЕДОВАТЕЛЬСКОЙ ДЕЯТЕЛЬНОСТ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структуре образовательной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результатам освоения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условиям реализации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5T16:52:57Z</dcterms:created>
  <dc:creator>Татьяна Надымова</dc:creator>
  <dc:description/>
  <dc:language>en-US</dc:language>
  <cp:lastModifiedBy/>
  <cp:revision>1</cp:revision>
  <dc:subject/>
  <dc:title/>
</cp:coreProperties>
</file>