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2A6-D11A-4031-84D2-DC905530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222-CC25-4C46-B2BC-6CB81676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CF9-3C0F-4E8E-B1B1-63DAC0FA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16C-7301-4D56-B8D1-CDFCE5DC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922-70E1-4049-8BC9-F04FB65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AAE-86ED-46EF-9479-69EB5E11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C3D-F025-4A81-81FD-C9C27A7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719-7E68-41AA-B0EF-56140FD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E1B-8A30-4DFC-A116-15F88427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2E8-EAAD-4AB0-825F-CE42A501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A24-8A50-4F5A-B2AC-14EBB3B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DF9-411B-4EEE-BF5F-85D040A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2AE4E-5BDF-4C5D-9B20-4657150C9B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25960"/>
            <a:ext cx="907092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«ДЕТСКИЙ САД  Д. М-СЕРВА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УЧЕТОМ ВНЕДРЕНИЯ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ГОС ДО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2120" y="3476520"/>
            <a:ext cx="91566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МАОУ «Сервинская ООШ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Детский сад д. Малая Серв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втор: воспитатель Надымова Т.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539640"/>
            <a:ext cx="918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ЛОВИЯ РЕАЛИЗАЦИИ ПРОГРАММЫ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атериально-техническ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ют санитарным нормам, правилам пожарной безопасности, возрастным и индивидуальным особенностя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ждая группа имеет пространственную среду, оборудование, учебные комплекты в соответствии с возрасто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сихолого – педагогические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важение к человеческому достоинству детей, формирование и поддержка их положительной самооценк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спользование форм и методов работы, соответствующих возрасту, индивидуальным особенностя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строение образовательной деятельности на основе взаимодействия взрослых с деть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доброжелательного отношения детей к друг друг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озможность выбора детьми видов деятельности, общ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Защита детей от всех форм физического и психического насил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родителей в воспитании детей, вовлечение семей в образовательную деятельност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вающая предметно-пространственная ср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ет возможность общения и совместной деятельности детей и взрослых, двигательной активности, возможности для уеди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ет возрастным возможностям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возможность изменений от образовательной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ступность, безопас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дровые: в МБДОУ работают: 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 первой квалификационной категории 72% высшей категории 21% </a:t>
            </a: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личие специалистов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инструкторы по физическому воспитани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музыкальный руководител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педагог-психолог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читель-логопед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нансовые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ют возможность выполнения требований Стандар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Гарантия бесплатного дошкольного образования за счет средств бюджетов бюджетной системы РФ в муниципальных организациях осуществляется на основе нормативов, определяемых органами государственной власти УР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000" y="360360"/>
            <a:ext cx="953136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ЕВЫЕ ОРИЕНТИРЫ НА ЭТАПЕ ЗАВЕРШЕНИЯ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одель выпускника Д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;Franklin G"/>
                <a:ea typeface="Franklin Gothic Book;Franklin G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ладеет основными культурными способами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инициативу и самосто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оложительно относится к миру, к людям, , самому себе, участвует в совместных играх, способен договарива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Адекватно проявляет свои чув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Владеет разными формами и видами иг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Хорошо владеет устной речью, может выражать свои мысли и жел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Развита мел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пособен к волевым усилиям , может следовать социальным нормам поведения в различных видах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облюдает правила безопасного поведения и личной гиги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любознательность, интересуется причинно-следственными связями, склонен наблюдать , эксперименти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0бладает начальными знаниями о себе, природном и социальном мире, в котором жив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179280"/>
            <a:ext cx="92199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Условия реализации Программы должны обеспечивать полноценное развитие личности во всех основных образователь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личные виды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ежимные мо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амостоятель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заимодействие с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00000"/>
            <a:ext cx="882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ОЛНИТЕЛЬНОЕ ОБРАЗОВ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НЕДРЕНИЕ НОВЫХ ВАРИАТИВНЫХ ФОРМ ДОШКОЛЬНОГО ОБРАЗОВАНИЯ С ЦЕЛЬЮ ПОВЫШЕНИЯ КАЧЕСТВА ОБРАЗОВАТЕЛЬНОГО ПРОЦЕССА И УДОВЛЕТВОРЕНИЯ ЗАПРОСА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ружок «Ковдо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Веселый худож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Умелые ру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С РОДИТЕЛ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979640"/>
          <a:ext cx="558000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79640"/>
                    <a:ext cx="55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59280" y="2340000"/>
          <a:ext cx="30607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340000"/>
                    <a:ext cx="3060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32000" y="1800360"/>
            <a:ext cx="2987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пки-передвиж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о С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 жур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дове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е 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мятки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е просмотры дет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курсии по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альбомы груп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0360" y="2160720"/>
            <a:ext cx="459432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нке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нтервью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Маркетинговые исследования (соц. Срез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«Копилка родительской мудрости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АЯ ПРОГРАММА СОСТ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мен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Радуга» Е.В.Соловь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бол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риативная часть формируемая участниками образовательного про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4800"/>
            <a:ext cx="90709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овательная программа разработана в соответствии с федеральным государственным образовательным стандартом дошкольного образ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-179280"/>
            <a:ext cx="8712360" cy="795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ходе проектирования учитывалис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комендации Примерной образовательной программы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отребности воспита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росы родителей (законных представ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, кадровые, материально-технические, финансов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360360"/>
            <a:ext cx="755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ТЕЛЬНЫЕ ОБЛА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ально-коммуникатив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правлено на усвоение норм и ценностей, принятых в обществе, включая моральные и нравственные ценности; развитие общения и взаимодействия ребенка со взрослыми и сверстниками; становление самостоятельности, целенаправленности и саморегуляции собственных действий; развитие социального и эмоционального интеллекта, эмоциональной отзывчивости, сопереживания, 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формирование основ безопасного поведения в быту, социуме,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знаватель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и др.), о малой родине и Отечестве, представлений о социокультурных ценностях нашего народа, об отечественных традициях и праздниках, о планете Земля как общем доме людей, об особенностях ее природы, многообразии стран и народов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77760"/>
            <a:ext cx="936000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чев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владение речью как средством общения и культуры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 детской литературой, понимание на слух текстов различных жанров детской литературы; формирование звуковой аналитико-синтетической активности как предпосылки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; формирование элементарных представлений о видах искусства; восприятие музыки, художественной литературы, фольклора; стимулирование сопереживания персонажам художественных произведений; реализацию самостоятельной творческой деятельности детей (изобразительной, конструктивно-модельной, музыкальной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; 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9280"/>
            <a:ext cx="918072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ЧИ РЕАЛИЗАЦИИ ПРОГРАММ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охрана и укрепление физического и психического здоровья детей, в том числе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равных возможностей полноценного развития каждого ребёнка в период дошкольного детства независимо от места проживания, пола, нации, языка, социального статуса, психофизиологических особенностей (в том числе ограниченных возможностей здоровь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реемственности основных образовательных программ дошкольного и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здание благоприятных условий развития детей в соответствии с их возрастными и индивиду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собенностями и склонностями развития способностей и творческого потенциала каждого ребёнка как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ъединение обучения и воспитания в целостный образовательный процесс на основе духовно-нравстве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общей культуры личности воспитанников, развитие их социальных, нравственных, эстет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нтеллектуальных, физических качеств, инициативности, самостоятельности и ответственности ребёнка,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вариативности и разнообразия содержания образовательных программ и организационных форм уров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школьного образования, возможности формирования образовательных программ различной направленности с учё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разовательных потребностей и способностей воспитанник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социокультурной среды, соответствующей возрастным, индивидуальным,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сихолого-педагогической поддержки семьи и повышения компетентности родителей в вопрос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тия и образования, охраны и укрепления здоровья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пределение направлений для систематического межведомственного взаимодействия, а также взаимо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ческих и общественных объединений (в том числе сетевог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360" y="720720"/>
            <a:ext cx="91803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ДЕРЖАНИЕ УКАЗАННЫХ ОБРАЗОВАТЕЛЬНЫХ ОБЛАСТЕЙ ЗАВИСИТ ОТ ВОЗРАСТНЫХ И ИНДИВИДУАЛЬНЫХ ОСОБЕННОСТЕЙ ДЕТЕЙ, ОПРЕДЕЛЯЕТСЯ ЦЕЛЯМИ И ЗАДАЧАМИ ПРОГРАММЫ И РЕАЛИЗУЕТСЯ В РАЗЛИЧНЫХ ВИДАХ ДЕЯТЕЛЬНОСТИ (ОБЩЕНИИ, ИГРЕ, ПОЗНАВАТЕЛЬНО-ИССЛЕДОВАТЕЛЬСКОЙ ДЕЯТЕЛЬНО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структуре образователь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6:52:57Z</dcterms:created>
  <dc:creator>Татьяна Надымова</dc:creator>
  <dc:description/>
  <dc:language>en-US</dc:language>
  <cp:lastModifiedBy/>
  <cp:revision>1</cp:revision>
  <dc:subject/>
  <dc:title/>
</cp:coreProperties>
</file>