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6A3-3986-41E5-A873-5385D39B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3E3-AB91-4756-9121-FACB8086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3A4-2C92-4C09-BECE-715DF7EF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FE4-9450-4D44-9426-AD83C639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1A3-F10B-4364-BCAC-36019D94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1B6-7FB7-4FB5-AC71-A87D4A90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D19-2959-4608-8DB8-49BFFB63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BCE-E0E8-4D81-84DA-87521E6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1E9-F503-43E9-99B6-5EECE3AD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F4E-989C-4DBF-B848-EA42E4E5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FC6-648A-4AEF-BDD9-30974485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26E-FE2F-4A47-9A99-6C0A3C6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83CAD-7D13-4AD3-BBFA-A1AD7E6640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-525960"/>
            <a:ext cx="907092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РАЗОВАТЕЛЬНАЯ ПРОГРАММА «ДЕТСКИЙ САД  Д. М-СЕРВА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УЧЕТОМ ВНЕДРЕНИЯ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ГОС ДО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: воспитатель структурного подразделения МАОУ «Сервинская основная общеобразовательная школа» «Детский сад Д.М-Сер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2120" y="3476520"/>
            <a:ext cx="91566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: воспитатель структурного подразделения МАОУ «Сервинская основная общеобразовательная школа» «Детский сад Д.М-Сер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разовательная программ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МАОУ «Сервинская ООШ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Детский сад д. Малая Серва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втор: воспитатель Надымова Т.В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360" y="539640"/>
            <a:ext cx="918036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ЛОВИЯ РЕАЛИЗАЦИИ ПРОГРАММЫ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Материально-технически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ответствуют санитарным нормам, правилам пожарной безопасности, возрастным и индивидуальным особенностям дете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аждая группа имеет пространственную среду, оборудование, учебные комплекты в соответствии с возрастом дете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сихолого – педагогические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Уважение к человеческому достоинству детей, формирование и поддержка их положительной самооценк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Использование форм и методов работы, соответствующих возрасту, индивидуальным особенностя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строение образовательной деятельности на основе взаимодействия взрослых с детьм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ддержка доброжелательного отношения детей к друг друг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озможность выбора детьми видов деятельности, общ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Защита детей от всех форм физического и психического насил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ддержка родителей в воспитании детей, вовлечение семей в образовательную деятельность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вивающая предметно-пространственная сре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ивает возможность общения и совместной деятельности детей и взрослых, двигательной активности, возможности для уеди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ответствует возрастным возможностям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возможность изменений от образовательной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Доступность, безопас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адровые: в МБДОУ работают: 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едагоги первой квалификационной категории 72% высшей категории 21% </a:t>
            </a: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Наличие специалистов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 инструкторы по физическому воспитани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музыкальный руководитель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 педагог-психолог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учитель-логопед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инансовые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ивают возможность выполнения требований Стандарт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Гарантия бесплатного дошкольного образования за счет средств бюджетов бюджетной системы РФ в муниципальных организациях осуществляется на основе нормативов, определяемых органами государственной власти УР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6000" y="360360"/>
            <a:ext cx="953136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ЕВЫЕ ОРИЕНТИРЫ НА ЭТАПЕ ЗАВЕРШЕНИЯ ДОШКОЛЬН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Модель выпускника ДО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;Franklin G"/>
                <a:ea typeface="Franklin Gothic Book;Franklin G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ладеет основными культурными способами деятель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роявляет инициативу и самостоятель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оложительно относится к миру, к людям, , самому себе, участвует в совместных играх, способен договаривать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Адекватно проявляет свои чув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Владеет разными формами и видами иг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Хорошо владеет устной речью, может выражать свои мысли и жел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Развита мелкая мотори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Способен к волевым усилиям , может следовать социальным нормам поведения в различных видах деятель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Соблюдает правила безопасного поведения и личной гигие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роявляет любознательность, интересуется причинно-следственными связями, склонен наблюдать , эксперименти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0бладает начальными знаниями о себе, природном и социальном мире, в котором жив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760" y="179280"/>
            <a:ext cx="92199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ЯЗАТЕЛЬНАЯ ЧАСТЬ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Условия реализации Программы должны обеспечивать полноценное развитие личности во всех основных образовательных обла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личные виды детск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ежимные мо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амостоятельная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заимодействие с родител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900000"/>
            <a:ext cx="882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ПОЛНИТЕЛЬНОЕ ОБРАЗОВАНИ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НЕДРЕНИЕ НОВЫХ ВАРИАТИВНЫХ ФОРМ ДОШКОЛЬНОГО ОБРАЗОВАНИЯ С ЦЕЛЬЮ ПОВЫШЕНИЯ КАЧЕСТВА ОБРАЗОВАТЕЛЬНОГО ПРОЦЕССА И УДОВЛЕТВОРЕНИЯ ЗАПРОСА ОБ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ружок «Ковдо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«Веселый худож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«Умелые ру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ТА С РОДИТЕЛЯ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1979640"/>
          <a:ext cx="5580000" cy="287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79640"/>
                    <a:ext cx="5580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59280" y="2340000"/>
          <a:ext cx="3060720" cy="126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340000"/>
                    <a:ext cx="30607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332000" y="1800360"/>
            <a:ext cx="29876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н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апки-передвиж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о С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ни открытых две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ск журн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лог дове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ие 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мятки для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рытые просмотры детск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курсии по Д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альбомы груп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40360" y="2160720"/>
            <a:ext cx="459432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Анке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Бес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Опро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Интервью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Маркетинговые исследования (соц. Срез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«Копилка родительской мудрости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ТЕЛЬНАЯ ПРОГРАММА СОСТО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8920" y="8996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 мене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язательная часть Програм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Радуга» Е.В.Соловь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 боле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ариативная часть формируемая участниками образовательного проце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4800"/>
            <a:ext cx="9070920" cy="1731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зовательная программа разработана в соответствии с федеральным государственным образовательным стандартом дошкольного образов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-179280"/>
            <a:ext cx="8712360" cy="795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ходе проектирования учитывалис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комендации Примерной образовательной программы 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отребности воспита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росы родителей (законных представител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, кадровые, материально-технические, финансовые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720" y="360360"/>
            <a:ext cx="75596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БРАЗОВАТЕЛЬНЫЕ ОБЛА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9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циально-коммуникативн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направлено на усвоение норм и ценностей, принятых в обществе, включая моральные и нравственные ценности; развитие общения и взаимодействия ребенка со взрослыми и сверстниками; становление самостоятельности, целенаправленности и саморегуляции собственных действий; развитие социального и эмоционального интеллекта, эмоциональной отзывчивости, сопереживания, формирование готовности к совместной деятельности со сверстниками, формирование уважительного отношения и чувства принадлежности к своей семье и к сообществу детей и взрослых в Организации; формирование позитивных установок к различным видам труда и творчества; формирование основ безопасного поведения в быту, социуме, при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9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знавательн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развитие интересов детей, любознательности и познавательной мотивации; формирование познавательных действий, становление сознания; развитие воображения и творческой активности; формирование первичных представлений о себе, других людях, объектах окружающего мира, о свойствах и отношениях объектов окружающего мира (форме, цвете, размере, материале, звучании, ритме, темпе, количестве, числе, части и целом, пространстве и времени, движении и покое, причинах и следствиях и др.), о малой родине и Отечестве, представлений о социокультурных ценностях нашего народа, об отечественных традициях и праздниках, о планете Земля как общем доме людей, об особенностях ее природы, многообразии стран и народов ми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0360" y="77760"/>
            <a:ext cx="9360000" cy="66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чев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ключает владение речью как средством общения и культуры; обогащение активного словаря; развитие связной, грамматически правильной диалогической и монологической речи; развитие речевого творчества; развитие звуковой и интонационной культуры речи, фонематического слуха; знакомство с книжной культурой, детской литературой, понимание на слух текстов различных жанров детской литературы; формирование звуковой аналитико-синтетической активности как предпосылки обучения грамо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ожественно-эстетическ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развитие предпосылок ценностно-смыслового восприятия и понимания произведений искусства (словесного, музыкального, изобразительного), мира природы; становление эстетического отношения к окружающему миру; формирование элементарных представлений о видах искусства; восприятие музыки, художественной литературы, фольклора; стимулирование сопереживания персонажам художественных произведений; реализацию самостоятельной творческой деятельности детей (изобразительной, конструктивно-модельной, музыкальной и др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изическ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ключает приобретение опыта в следующих видах деятельности детей: двигательной, в том числе связанной с выполнением упражнений, направленных на развитие таких физических качеств, как координация и гибкость; способствующих правильному формированию опорно-двигательной системы организма, развитию равновесия, координации движения, крупной и мелкой моторики обеих рук, а также с правильным, не наносящем ущерба организму, выполнением основных движений (ходьба, бег, мягкие прыжки, повороты в обе стороны), формирование начальных представлений о некоторых видах спорта, овладение подвижными играми с правилами; становление целенаправленности и саморегуляции в двигательной сфере; становление ценностей здорового образа жизни, овладение его элементарными нормами и правилами (в питании, двигательном режиме, закаливании, при формировании полезных привычек и др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79280"/>
            <a:ext cx="918072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АДАЧИ РЕАЛИЗАЦИИ ПРОГРАММ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охрана и укрепление физического и психического здоровья детей, в том числе их эмоционального благополуч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равных возможностей полноценного развития каждого ребёнка в период дошкольного детства независимо от места проживания, пола, нации, языка, социального статуса, психофизиологических особенностей (в том числе ограниченных возможностей здоровья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преемственности основных образовательных программ дошкольного и начального общего образ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здание благоприятных условий развития детей в соответствии с их возрастными и индивидуаль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собенностями и склонностями развития способностей и творческого потенциала каждого ребёнка как су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тношений с самим собой, другими детьми, взрослыми и мир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ъединение обучения и воспитания в целостный образовательный процесс на основе духовно-нравственных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циокультурных ценностей и принятых в обществе правил и норм поведения в интересах человека, семьи, обществ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ормирование общей культуры личности воспитанников, развитие их социальных, нравственных, эстетически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интеллектуальных, физических качеств, инициативности, самостоятельности и ответственности ребёнка,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сылок учебной деятельно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вариативности и разнообразия содержания образовательных программ и организационных форм уров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дошкольного образования, возможности формирования образовательных программ различной направленности с учёт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разовательных потребностей и способностей воспитанник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ормирование социокультурной среды, соответствующей возрастным, индивидуальным, психологически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изиологическим особенностям дет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психолого-педагогической поддержки семьи и повышения компетентности родителей в вопрос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вития и образования, охраны и укрепления здоровья дет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пределение направлений для систематического межведомственного взаимодействия, а также взаимодейств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едагогических и общественных объединений (в том числе сетевого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0360" y="720720"/>
            <a:ext cx="91803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ДЕРЖАНИЕ УКАЗАННЫХ ОБРАЗОВАТЕЛЬНЫХ ОБЛАСТЕЙ ЗАВИСИТ ОТ ВОЗРАСТНЫХ И ИНДИВИДУАЛЬНЫХ ОСОБЕННОСТЕЙ ДЕТЕЙ, ОПРЕДЕЛЯЕТСЯ ЦЕЛЯМИ И ЗАДАЧАМИ ПРОГРАММЫ И РЕАЛИЗУЕТСЯ В РАЗЛИЧНЫХ ВИДАХ ДЕЯТЕЛЬНОСТИ (ОБЩЕНИИ, ИГРЕ, ПОЗНАВАТЕЛЬНО-ИССЛЕДОВАТЕЛЬСКОЙ ДЕЯТЕЛЬНОСТ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структуре образовательной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результатам освоения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условиям реализации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16:52:57Z</dcterms:created>
  <dc:creator>Татьяна Надымова</dc:creator>
  <dc:description/>
  <dc:language>en-US</dc:language>
  <cp:lastModifiedBy/>
  <cp:revision>1</cp:revision>
  <dc:subject/>
  <dc:title/>
</cp:coreProperties>
</file>